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03C4-EBDA-49B3-B641-7E488841E0B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e with neighbor and the gro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B17C-9FB7-4EFE-A332-707C53F8D59A}" type="slidenum">
              <a:rPr b="0" i="1" lang="en-US" sz="1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learning models work well with t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6018-AD57-475B-8EB4-39401BCE4F5F}" type="slidenum">
              <a:rPr b="0" i="1" lang="en-US" sz="1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MINDTOOLS website for great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9F4B-4AB0-4925-87D7-70B9C779CB5D}" type="slidenum">
              <a:rPr b="0" i="1" lang="en-US" sz="1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9880" y="1193760"/>
            <a:ext cx="8826840" cy="240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9880" y="4025520"/>
            <a:ext cx="8826840" cy="1816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58000"/>
          </a:bodyPr>
          <a:p>
            <a:pPr marL="198720"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8720" indent="-198720" algn="r"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98720" indent="-198720" algn="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720" indent="-198720" algn="r"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720" indent="-198720" algn="r"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720" indent="-198720" algn="r"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720" indent="-198720" algn="r"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0" y="3581280"/>
            <a:ext cx="9815400" cy="3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146280" y="2070000"/>
            <a:ext cx="322596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5000"/>
          </a:bodyPr>
          <a:p>
            <a:pPr marL="37440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808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684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3"/>
          <a:stretch/>
        </p:blipFill>
        <p:spPr>
          <a:xfrm>
            <a:off x="0" y="1486080"/>
            <a:ext cx="9815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160" y="1574640"/>
            <a:ext cx="4647960" cy="208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533160" y="4025520"/>
            <a:ext cx="4647960" cy="1816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58000"/>
          </a:bodyPr>
          <a:p>
            <a:pPr marL="1987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8720" indent="-198720" algn="ctr"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98720" indent="-198720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720" indent="-198720" algn="ctr"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720" indent="-198720" algn="ctr"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720" indent="-198720" algn="ctr"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720" indent="-198720" algn="ctr"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3"/>
          <a:stretch/>
        </p:blipFill>
        <p:spPr>
          <a:xfrm>
            <a:off x="-647640" y="3695760"/>
            <a:ext cx="5935680" cy="23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74720" y="2070000"/>
            <a:ext cx="40132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2000"/>
          </a:bodyPr>
          <a:p>
            <a:pPr marL="41472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148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788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300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6876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6876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6876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3"/>
          <a:stretch/>
        </p:blipFill>
        <p:spPr>
          <a:xfrm>
            <a:off x="0" y="1486080"/>
            <a:ext cx="9815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4000"/>
          </a:bodyPr>
          <a:p>
            <a:pPr marL="572760" indent="-36972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36972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504080" indent="-37008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993320" indent="-36972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471040" indent="-37008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471040" indent="-37008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471040" indent="-37008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0" y="1486080"/>
            <a:ext cx="9815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2000"/>
          </a:bodyPr>
          <a:p>
            <a:pPr marL="52992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08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2060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38788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38788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38788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0" y="1486080"/>
            <a:ext cx="9815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589320" indent="-35784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0040" indent="-35820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90760" indent="-35820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964520" indent="-35784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426760" indent="-35784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426760" indent="-357840">
              <a:spcBef>
                <a:spcPts val="9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426760" indent="-357840">
              <a:spcBef>
                <a:spcPts val="9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5892480"/>
            <a:ext cx="9169200" cy="90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3"/>
          <a:stretch/>
        </p:blipFill>
        <p:spPr>
          <a:xfrm>
            <a:off x="0" y="1486080"/>
            <a:ext cx="9815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9880" y="1193760"/>
            <a:ext cx="8826840" cy="240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0" y="3581280"/>
            <a:ext cx="9815400" cy="3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774360" y="761760"/>
            <a:ext cx="8597880" cy="609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2000"/>
          </a:bodyPr>
          <a:p>
            <a:pPr marL="560520" indent="-36180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6280" indent="-36180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72040" indent="-36216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950840" indent="-36180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418480" indent="-36216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418480" indent="-36216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418480" indent="-36216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74720" y="2070000"/>
            <a:ext cx="40132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2000"/>
          </a:bodyPr>
          <a:p>
            <a:pPr marL="41472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148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788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300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6876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6876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6876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3"/>
          <a:stretch/>
        </p:blipFill>
        <p:spPr>
          <a:xfrm>
            <a:off x="0" y="1486080"/>
            <a:ext cx="9815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240" y="1257480"/>
            <a:ext cx="8178840" cy="2286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Guiding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Differenti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44160" y="4191120"/>
            <a:ext cx="8178840" cy="3327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Suggestions for gifted support teachers</a:t>
            </a:r>
            <a:endParaRPr b="0" i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Carolyn Hoy, M. Ed</a:t>
            </a:r>
            <a:endParaRPr b="0" i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Warwick School District</a:t>
            </a:r>
            <a:endParaRPr b="0" i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illersville University</a:t>
            </a:r>
            <a:endParaRPr b="0" i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" descr=""/>
          <p:cNvPicPr/>
          <p:nvPr/>
        </p:nvPicPr>
        <p:blipFill>
          <a:blip r:embed="rId1"/>
          <a:stretch/>
        </p:blipFill>
        <p:spPr>
          <a:xfrm>
            <a:off x="660240" y="5943600"/>
            <a:ext cx="5321520" cy="13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1" descr=""/>
          <p:cNvPicPr/>
          <p:nvPr/>
        </p:nvPicPr>
        <p:blipFill>
          <a:blip r:embed="rId1"/>
          <a:stretch/>
        </p:blipFill>
        <p:spPr>
          <a:xfrm>
            <a:off x="1015920" y="76212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1 Ways to Guide Teachers to Different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558720" y="2025720"/>
            <a:ext cx="886464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. Know the standard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. Vary instructional strategies and activiti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. Create a learning clim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. Exhibit 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‘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ith-it-ness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5. Provide a wide variety of materials and resourc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6. Know the studen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1 Ways to Guide Teachers to Different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568440" y="1968480"/>
            <a:ext cx="900432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7.  Assess before, during, and after the learning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8.  Adjust assignmen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9.  Plan student-focused opportuniti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0. Use flexible grouping design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1. Know change is gradu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eating the Classroom Climat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spect diversity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aintain high expectation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enerate opennes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sider introductory activity/interest inventories, other ways to learn about your studen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3" descr=""/>
          <p:cNvPicPr/>
          <p:nvPr/>
        </p:nvPicPr>
        <p:blipFill>
          <a:blip r:embed="rId5"/>
          <a:stretch/>
        </p:blipFill>
        <p:spPr>
          <a:xfrm>
            <a:off x="6615000" y="2070000"/>
            <a:ext cx="292104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ctivit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o to the paper that describes your knowledge of the subject announce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ELOW BASIC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ROFICIEN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DVANCE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DI basic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ary content: What do you want students to learn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ary process: What do you want the students to do cognitively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ary product:How do you want students to demonstrate what they have learned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40840" y="456840"/>
            <a:ext cx="97282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s Leading to Differenti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nning Ques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do I want students to know, understand and be able to do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-assessing Ques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 already knows, understands and/or can use the content or demonstrate the skill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fferentiation Ques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can I do for them so that they can make continuous progress and extend their learning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922800" y="674748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oberts, 9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5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 one place to start..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82400" y="25146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urriculum compacting: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reates a challenging learning environment: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esses what a student knows and what is still neede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uarantees proficiency in curriculum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iminates content that is already know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uys time for enrichment/accelera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544320" y="1928880"/>
            <a:ext cx="8481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IEP goals: Acceleration and/or enrichmen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" descr=""/>
          <p:cNvPicPr/>
          <p:nvPr/>
        </p:nvPicPr>
        <p:blipFill>
          <a:blip r:embed="rId1"/>
          <a:stretch/>
        </p:blipFill>
        <p:spPr>
          <a:xfrm>
            <a:off x="209520" y="114480"/>
            <a:ext cx="9737640" cy="69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 may need compaction if h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sistently finishes tasks quickly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nishes reading assignments firs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ppears bored during instructional tim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sistently daydream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reates own puzzles, diversions in clas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rings in outside reading materi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efense of differentia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e gifted support teacher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 ro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uggested strategies to assist your teacher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re resources to explor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 may need compaction if h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74360" y="1892160"/>
            <a:ext cx="8597880" cy="4965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forms well in one or more academic are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st scores excellent despite average/below average classwor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ks questions which indicate familiarity with mater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ought after by other students for assistan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s vocabulary and verbal expression in advance of grad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resses interest in pursuing alternate or advanced topic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uggestions for Pre-assessmen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74360" y="1727280"/>
            <a:ext cx="8597880" cy="5486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re-assess by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of the previous unit assessmen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of unit assessmen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-W-L char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nd map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ve most difficult question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9384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en ended question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onsideratio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mmunicate with parents about the compacting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ocument, document, documen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llow student choice but never the choice to do nothing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" descr=""/>
          <p:cNvPicPr/>
          <p:nvPr/>
        </p:nvPicPr>
        <p:blipFill>
          <a:blip r:embed="rId1"/>
          <a:stretch/>
        </p:blipFill>
        <p:spPr>
          <a:xfrm>
            <a:off x="361800" y="282600"/>
            <a:ext cx="9410760" cy="67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ow do I do it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31640" y="1828800"/>
            <a:ext cx="9436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  <a:ea typeface="MS PGothic"/>
              </a:rPr>
              <a:t>1. Identify the objectives in a given subject are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  <a:ea typeface="MS PGothic"/>
              </a:rPr>
              <a:t>2. Pre-tes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  <a:ea typeface="MS PGothic"/>
              </a:rPr>
              <a:t>3. Eliminate instructional time for students who show mastery of the objectives.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  <a:ea typeface="MS PGothic"/>
              </a:rPr>
              <a:t>4. Offer challenging alternatives for time provided by compact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  <a:ea typeface="MS PGothic"/>
              </a:rPr>
              <a:t>5. Set criteria for mastery of alternativ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  <a:ea typeface="MS PGothic"/>
              </a:rPr>
              <a:t>6. Keep records of proces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1" descr=""/>
          <p:cNvPicPr/>
          <p:nvPr/>
        </p:nvPicPr>
        <p:blipFill>
          <a:blip r:embed="rId1"/>
          <a:stretch/>
        </p:blipFill>
        <p:spPr>
          <a:xfrm>
            <a:off x="1079640" y="434880"/>
            <a:ext cx="8458200" cy="67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" descr=""/>
          <p:cNvPicPr/>
          <p:nvPr/>
        </p:nvPicPr>
        <p:blipFill>
          <a:blip r:embed="rId1"/>
          <a:stretch/>
        </p:blipFill>
        <p:spPr>
          <a:xfrm>
            <a:off x="825480" y="355680"/>
            <a:ext cx="9055080" cy="72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uggestions for compact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earning contrac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udy guide extension menu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CAMP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loom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 taxonomy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nk-tac-to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dependent projec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Learning contract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ructure in taking responsibility for own learning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hance to try new way of learning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udents involved in decision making: increased intrinsic motiva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udent interest driv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Learning contract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431640" y="1981080"/>
            <a:ext cx="9156960" cy="59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enefi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an be useful in closing achievement ga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an be useful in providing student support for lack of motiv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When to use 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Useful when students are identified as needing additional teacher and parental suppor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o encourage student to investigate learning in depth and with fidelity of topics of interest for personal growth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s to pon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14520" indent="-360360">
              <a:spcBef>
                <a:spcPts val="28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s gifted education exacerbated social, economic, and racial divisions in society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4520" indent="-360360"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es the term 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ifted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engender feelings of elitism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4520" indent="-360360"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 the teachers that work with the identified gifted in your building have an understanding of their needs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4520" indent="-360360"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is the role of the gifted support teacher in light of new regs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tudy guide extension menu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304920" y="1955880"/>
            <a:ext cx="98550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Determine and list the key concepts for the unit of study.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Describe related concepts that will not be included in the unit of study - concepts to study in depth if time permitted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Create a study guide for the key concepts only.  Student completes at own pace whi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you provide direct instruction for the rest of the class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Develop formative assessments to check for understanding of the key concepts in the study guide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Create an extension menu using the related concepts from step #2 above.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Have students determine the method they would like to use to present the information investigated in the extension menu.  You can use the Product Choices Chart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Discuss parameters of completing this work using the independent study agreement for both the study guide and independent study.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MS PGothic"/>
              </a:rPr>
              <a:t>Determine and discuss the grading policy for both the study guide and extension menu project. 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tudy guide extension menu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"/>
          <p:cNvSpPr/>
          <p:nvPr/>
        </p:nvSpPr>
        <p:spPr>
          <a:xfrm>
            <a:off x="682560" y="1886040"/>
            <a:ext cx="87883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Bold"/>
                <a:ea typeface="MS PGothic"/>
              </a:rPr>
              <a:t>Important to remember about this method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PGothic"/>
              </a:rPr>
              <a:t>Students do not need to do the actual daily work of the other student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PGothic"/>
              </a:rPr>
              <a:t>Students are expected to share what they have learned with their classmat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PGothic"/>
              </a:rPr>
              <a:t>You should plan some time each week to meet with students working more independently to assess their progress and assist them in research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PGothic"/>
              </a:rPr>
              <a:t>Students are required to keep a folder of their independent work in the classroom, so they always have something to work on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 C A M P E 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457200" tIns="38160" bIns="38160" anchor="ctr">
            <a:normAutofit/>
          </a:bodyPr>
          <a:p>
            <a:pPr marL="647640" indent="-3934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MPER is a mnemonic that stands fo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46000"/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•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stitu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6000"/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•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bin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6000"/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•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ap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6000"/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•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y/minify/magnif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6000"/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•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 to another u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6000"/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•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imina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6000"/>
              <a:buFont typeface="Symbol" charset="2"/>
              <a:buChar char="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•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er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74360" y="-360"/>
            <a:ext cx="8597880" cy="163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sing Bloom</a:t>
            </a: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 Taxonomy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evelop respectful, engaging tasks for each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istribute rubrics/scoring guides for each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gnitive Process Dimen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ember: retrieve knowledge from LT memor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derstand: Construct meaning from instructional messages, oral, written, graphi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y: Carry out or use a procedu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yze: Break material into parts and determine structure and purpo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aluate: Make judgements based on criteria/standard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ate: Put elements together to form a coherent or functional whole, reorganize elements into a new pattern/structu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ink-Tac-Toe/Choice board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lvl="2" marL="1638360" indent="-39384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o many resources already exist!  Don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 re-invent the wheel.  Show your teachers this website: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8360" indent="-39384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ttp://daretodifferentiate.wikispaces.com/Choice+Board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1" descr=""/>
          <p:cNvPicPr/>
          <p:nvPr/>
        </p:nvPicPr>
        <p:blipFill>
          <a:blip r:embed="rId1"/>
          <a:stretch/>
        </p:blipFill>
        <p:spPr>
          <a:xfrm>
            <a:off x="800280" y="596880"/>
            <a:ext cx="855972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" descr=""/>
          <p:cNvPicPr/>
          <p:nvPr/>
        </p:nvPicPr>
        <p:blipFill>
          <a:blip r:embed="rId1"/>
          <a:stretch/>
        </p:blipFill>
        <p:spPr>
          <a:xfrm>
            <a:off x="698400" y="291960"/>
            <a:ext cx="874728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ndependent project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hould be guide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roposal/timeline/goal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udent &amp; teacher generated assessmen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ry Understanding by Design (McTighe/Wiggins) framework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ased on student strength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Renzulli</a:t>
            </a:r>
            <a:r>
              <a:rPr b="0" lang="ja-JP" sz="5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 5 Dimensio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ifferentiate the conten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ifferentiate instructional sty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ifferentiate the classroom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ifferentiate the produc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ifferentiate YOU!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774720" y="2070000"/>
            <a:ext cx="415296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8000"/>
          </a:bodyPr>
          <a:p>
            <a:pPr marL="540720" indent="-316800">
              <a:spcBef>
                <a:spcPts val="28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fted children should not hav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steriously defined attributes and learning needs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y  presenting data, we can help general education teachers come to an understanding that some children have exceptionally advanced learning needs that require flexibly responsive educational attention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0720"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0720"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40720" indent="-316800" algn="ctr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http://porbital.deviantart.com/art/A-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1551240" y="614520"/>
            <a:ext cx="7360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hanging paradigms of gifted educa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2"/>
          <a:stretch/>
        </p:blipFill>
        <p:spPr>
          <a:xfrm>
            <a:off x="5143680" y="2070000"/>
            <a:ext cx="4483080" cy="448308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5"/>
          <p:cNvSpPr/>
          <p:nvPr/>
        </p:nvSpPr>
        <p:spPr>
          <a:xfrm>
            <a:off x="7934400" y="6559560"/>
            <a:ext cx="1752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Mysterious-Man-13617306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ow to differentiate YOU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8000"/>
          </a:bodyPr>
          <a:p>
            <a:pPr marL="634680" indent="-38556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age on the stage          Guide on the sid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34680" indent="-38556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thletic or drama coach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34680" indent="-38556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age manager/production manag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34680" indent="-38556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romotional agen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34680" indent="-38556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cademic adviso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34680" indent="-38556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rtistic modification: painting yourself into the curriculum (Renzull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3"/>
          <p:cNvSpPr/>
          <p:nvPr/>
        </p:nvSpPr>
        <p:spPr>
          <a:xfrm flipH="1" flipV="1">
            <a:off x="4808160" y="2420640"/>
            <a:ext cx="792360" cy="4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1"/>
          <p:cNvSpPr/>
          <p:nvPr/>
        </p:nvSpPr>
        <p:spPr>
          <a:xfrm>
            <a:off x="2183040" y="3254760"/>
            <a:ext cx="5787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ideo: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I have differentiated my lesson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" descr=""/>
          <p:cNvPicPr/>
          <p:nvPr/>
        </p:nvPicPr>
        <p:blipFill>
          <a:blip r:embed="rId1"/>
          <a:stretch/>
        </p:blipFill>
        <p:spPr>
          <a:xfrm>
            <a:off x="165240" y="165240"/>
            <a:ext cx="3936960" cy="50799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"/>
          <p:cNvPicPr/>
          <p:nvPr/>
        </p:nvPicPr>
        <p:blipFill>
          <a:blip r:embed="rId2"/>
          <a:stretch/>
        </p:blipFill>
        <p:spPr>
          <a:xfrm>
            <a:off x="3149640" y="2413080"/>
            <a:ext cx="3860640" cy="50799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3"/>
          <a:stretch/>
        </p:blipFill>
        <p:spPr>
          <a:xfrm>
            <a:off x="5792760" y="158760"/>
            <a:ext cx="518148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What a child doesn</a:t>
            </a:r>
            <a:r>
              <a:rPr b="0" lang="ja-JP" sz="5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 lear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55680" y="1828800"/>
            <a:ext cx="9524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14520" indent="-360360">
              <a:spcBef>
                <a:spcPts val="28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ethi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4520" indent="-360360"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ibilit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4520" indent="-360360"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ing with disappointmen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4520" indent="-360360"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 worth stemming from the accomplishment of a challenging task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4520" indent="-360360">
              <a:spcBef>
                <a:spcPts val="28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management skills/study skill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4520" indent="-360360">
              <a:spcBef>
                <a:spcPts val="28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setting/ decision mak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4520" indent="-360360">
              <a:spcBef>
                <a:spcPts val="28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crifi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5724360" y="6257160"/>
            <a:ext cx="387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acy Inman, What a Child Doesn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 Lear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ends in Edu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815840"/>
            <a:ext cx="8889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mocratized Entrepreneurship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o take advantage of this trend: Begin to cultivate an edupreneurial mindset of experimentation, risk-taking, learning from failure, creative problem-solving, and market awareness in your classroom, and expand it to your school and district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sonalization Strategi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o take advantage of this trend: Find ways to enrich your students' cognitive environment through social-emotional skills and brain-based insigh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versification of School Format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o take advantage of this trend: Identify ways that your district can diversify its school formats to serve the multiple and changing needs of the community and its learner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nging Certification Methods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 take advantage of this trend: Help stude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ts of all ages communicate their meta-learning -- their insights about their skills, the application of their skills, and evidence of their learning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forming Urban Learning Landscape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o take advantage of this tren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dentify community partners with whom you can develop relationships that support purposeful curriculum based on solving real problem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"/>
          <p:cNvSpPr/>
          <p:nvPr/>
        </p:nvSpPr>
        <p:spPr>
          <a:xfrm>
            <a:off x="431640" y="958680"/>
            <a:ext cx="9055440" cy="83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arth, R. (2006). Improving relationships within the schoolhous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MS PGothic"/>
              </a:rPr>
              <a:t>Educational Leader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MS PGothic"/>
              </a:rPr>
              <a:t>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6), 8-13. Retriev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http://www.ascd.org/publications/educational-leadership/mar06/vol63/num06/Improving-Relationships-Within-the-Schoolhouse.asp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MS PGothic"/>
              </a:rPr>
              <a:t>Dare to different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 (n.d.). Retriev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http://daretodifferentiate.wikispaces.com/Hom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MS PGothic"/>
              </a:rPr>
              <a:t>Differentiation using curriculum compac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 (n.d.). Retriev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http://www.gifted.uconn.edu/nrcgt/nrconlin.htm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man, T. (2007). What a child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lear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</a:rPr>
              <a:t>The Challe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nter 2007, 17-19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thews, D., &amp; Foster, J. (2006). Myste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stery: shifting paradigms in gifted edu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</a:rPr>
              <a:t>Roeper Re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 64-69. Retriev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isingsmarterkids.net/myst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astery.pdf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, G. (2013, June 04). [Web log message]. Retriev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blogher.com/lets-not-call-them-gift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774720" y="127080"/>
            <a:ext cx="85978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sources</a:t>
            </a:r>
            <a:endParaRPr b="0" i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"/>
          <p:cNvSpPr/>
          <p:nvPr/>
        </p:nvSpPr>
        <p:spPr>
          <a:xfrm>
            <a:off x="431640" y="533520"/>
            <a:ext cx="947448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is, S., &amp; Renzulli, J. (n.d.). Differentiatio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MS PGothic"/>
              </a:rPr>
              <a:t>Compass Lear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Retriev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https://www.compasslearning.com/white-pap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oberts, J., &amp; Inman, T. (2009).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MS PGothic"/>
              </a:rPr>
              <a:t>Differentiating instruction: best practices for the classro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 Waco, TX: Prufrock Pres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otherman, A. (2013, April 25). The illusion of the 'gifted' chil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MS PGothic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Retriev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http://ideas.time.com/2013/04/25/the-illusion-of-the-gifted-child/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nzulli, J. (n.d.). Painting yourself into the professional growth picture- artistic modificatio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MS PGothic"/>
              </a:rPr>
              <a:t>Neag Center for Gifted Education and Talent Develo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Retriev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http://www.gifted.uconn.edu/sem/paintyou.htm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arko, A. (1986).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MS PGothic"/>
              </a:rPr>
              <a:t>It's about time: inservice strategies for curriculum compac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 Mansfield Center, Conn: Creative Learning Pres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ompson, M. (1998). A response to 'all children are gifted'. 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MS PGothic"/>
              </a:rPr>
              <a:t>Indiana Association for the Gifted Annual   Con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Retriev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http://www.rfwp.com/samples/mct-gifted-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ts val="18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"/>
          <p:cNvSpPr/>
          <p:nvPr/>
        </p:nvSpPr>
        <p:spPr>
          <a:xfrm>
            <a:off x="851040" y="1155600"/>
            <a:ext cx="887724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ftedness i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ceptionally advanced subject-specific ability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a particular point in tim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ch that a student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 learning needs cannot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well met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out significant adaptation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the curriculum.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atthews &amp; Foster, 2005b, p. 26)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3"/>
          <p:cNvGrpSpPr/>
          <p:nvPr/>
        </p:nvGrpSpPr>
        <p:grpSpPr>
          <a:xfrm>
            <a:off x="2349360" y="571680"/>
            <a:ext cx="5702400" cy="4254480"/>
            <a:chOff x="2349360" y="571680"/>
            <a:chExt cx="5702400" cy="4254480"/>
          </a:xfrm>
        </p:grpSpPr>
        <p:pic>
          <p:nvPicPr>
            <p:cNvPr id="481" name="Picture 1" descr=""/>
            <p:cNvPicPr/>
            <p:nvPr/>
          </p:nvPicPr>
          <p:blipFill>
            <a:blip r:embed="rId1"/>
            <a:srcRect l="0" t="22931" r="0" b="22785"/>
            <a:stretch/>
          </p:blipFill>
          <p:spPr>
            <a:xfrm>
              <a:off x="2552400" y="774720"/>
              <a:ext cx="5297760" cy="38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2" descr=""/>
            <p:cNvPicPr/>
            <p:nvPr/>
          </p:nvPicPr>
          <p:blipFill>
            <a:blip r:embed="rId2"/>
            <a:stretch/>
          </p:blipFill>
          <p:spPr>
            <a:xfrm>
              <a:off x="2349360" y="571680"/>
              <a:ext cx="5702400" cy="425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2440" y="4698720"/>
            <a:ext cx="9169200" cy="2374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can gifted students</a:t>
            </a: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learning needs be best supporte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74360" y="457200"/>
            <a:ext cx="8597880" cy="196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one describes your faculty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31640" y="2069640"/>
            <a:ext cx="8598240" cy="505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arallel play: 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e all live in our separate caves.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 all in this -- alone.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dversarial relationships: withholding craft knowledge, competing for materials, recogni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genial relationships: personal, friendly relationships with colleagu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llegial relationships..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ollegial relationship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09480" indent="-393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46000"/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Educators talking with one another about practice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393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46000"/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Educators sharing their craft knowledge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393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46000"/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Educators observing one another while they are engaged in practice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393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46000"/>
              <a:buFont typeface="Verdana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Educators rooting for one another's success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-1440" y="2184480"/>
            <a:ext cx="7986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hen we 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‘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lay together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it looks like..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5600160" y="5961240"/>
            <a:ext cx="3275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nd students win!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eating a culture of collegia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74360" y="175248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7640" indent="-3934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alk about practic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hare craft knowledg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Observe one anoth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oot for one anoth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7640" indent="-39348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et leadership involve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2562120" y="6324480"/>
            <a:ext cx="7594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oland Barth, Improving Relationships in the Schoolhous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lleen Lenett</dc:creator>
  <dc:description/>
  <cp:keywords/>
  <dc:language>en-US</dc:language>
  <cp:lastModifiedBy>Colleen Lenett</cp:lastModifiedBy>
  <dcterms:modified xsi:type="dcterms:W3CDTF">2013-07-22T11:01:11Z</dcterms:modified>
  <cp:revision>6</cp:revision>
  <dc:subject/>
  <dc:title>Guiding  Differentiation</dc:title>
</cp:coreProperties>
</file>